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AAFA-C264-4E86-8D6A-6E08B4C1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D2F-33FA-4A90-A75F-14D7ED1FBA43}" type="slidenum">
              <a:rPr b="1" lang="pt-BR" sz="1200" spc="-1" strike="noStrike">
                <a:solidFill>
                  <a:srgbClr val="e5e5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8FE9-1A9C-4313-ABEA-70D92FFB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F982-96A1-49F0-8BB6-C82D238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40D3-A9AC-4963-BC56-C1D37F66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8A00-12B6-43F1-9D60-BF55F8E1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62C2-38CC-41B6-BE96-9F12801B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8D0C-237D-4A54-9F95-CC8ED3DA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F91-BD47-43C8-A031-8F31A89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27D-8DBB-4C08-B3AC-0EAA77B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F81-B5F1-46B9-9F56-9C7A5154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A5B6-620C-401D-90BC-6AE33FD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D5AC-2ECD-483C-B09B-B2D19E8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78E4-6C23-48EF-A811-38EF7DA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DBB4-EA2C-42DD-82AC-D960840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2CD1-6F29-4B4D-97FF-96C9F73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7B6D-3014-4908-AEF2-B7ABE168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AC45-3B40-4627-9307-645B33F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3F2C-8993-4C87-BD19-1876189F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CD50-6604-478B-B616-97E0D3A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95E1-3CFE-4D32-9BB9-ABA0F4E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D332-CC56-45B7-8C47-98D09A7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F952-C451-4131-87B2-540BEB0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95F2-97B9-4CC8-8280-324B722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5B26-61D9-41D2-A07F-68AF2AB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1525-1383-4954-B1CB-506028A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4C3C-D3EE-4DB3-8FFC-BDA55B3DCF8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14B4-C687-4C90-AAF6-E9C43F247DF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4429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rof. Dr Márcio Antonio Moreira Galvão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rofessor Associado DECME/UFOP e Coordenador do Curso de Medicina da UFOP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85880" y="1856880"/>
            <a:ext cx="75722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S DESAFIOS DE TRANSFORMAR A FORMAÇÃO MÉDICA EM UMA ESCOLA JOV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 CASO DO CURSO DE MEDICINA DA UFO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Imagem 41" descr="logo_ufop.gif"/>
          <p:cNvPicPr/>
          <p:nvPr/>
        </p:nvPicPr>
        <p:blipFill>
          <a:blip r:embed="rId1"/>
          <a:stretch/>
        </p:blipFill>
        <p:spPr>
          <a:xfrm>
            <a:off x="179280" y="214200"/>
            <a:ext cx="728640" cy="15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tângulo com Único Canto Aparado 40"/>
          <p:cNvSpPr/>
          <p:nvPr/>
        </p:nvSpPr>
        <p:spPr>
          <a:xfrm>
            <a:off x="4714920" y="1571760"/>
            <a:ext cx="4357800" cy="4929120"/>
          </a:xfrm>
          <a:custGeom>
            <a:avLst/>
            <a:gdLst>
              <a:gd name="textAreaLeft" fmla="*/ 0 w 4357800"/>
              <a:gd name="textAreaRight" fmla="*/ 3994920 w 4357800"/>
              <a:gd name="textAreaTop" fmla="*/ 362880 h 4929120"/>
              <a:gd name="textAreaBottom" fmla="*/ 4929480 h 4929120"/>
            </a:gdLst>
            <a:ahLst/>
            <a:rect l="textAreaLeft" t="textAreaTop" r="textAreaRight" b="textAreaBottom"/>
            <a:pathLst>
              <a:path w="4357688" h="4929188">
                <a:moveTo>
                  <a:pt x="0" y="0"/>
                </a:moveTo>
                <a:lnTo>
                  <a:pt x="3631392" y="0"/>
                </a:lnTo>
                <a:lnTo>
                  <a:pt x="4357688" y="726296"/>
                </a:lnTo>
                <a:lnTo>
                  <a:pt x="4357688" y="4929188"/>
                </a:lnTo>
                <a:lnTo>
                  <a:pt x="0" y="492918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tângulo com Único Canto Aparado 39"/>
          <p:cNvSpPr/>
          <p:nvPr/>
        </p:nvSpPr>
        <p:spPr>
          <a:xfrm>
            <a:off x="71280" y="1571760"/>
            <a:ext cx="4500720" cy="4929120"/>
          </a:xfrm>
          <a:custGeom>
            <a:avLst/>
            <a:gdLst>
              <a:gd name="textAreaLeft" fmla="*/ 0 w 4500720"/>
              <a:gd name="textAreaRight" fmla="*/ 4125960 w 4500720"/>
              <a:gd name="textAreaTop" fmla="*/ 374760 h 4929120"/>
              <a:gd name="textAreaBottom" fmla="*/ 4929480 h 4929120"/>
            </a:gdLst>
            <a:ahLst/>
            <a:rect l="textAreaLeft" t="textAreaTop" r="textAreaRight" b="textAreaBottom"/>
            <a:pathLst>
              <a:path w="4500562" h="4929188">
                <a:moveTo>
                  <a:pt x="0" y="0"/>
                </a:moveTo>
                <a:lnTo>
                  <a:pt x="3750453" y="0"/>
                </a:lnTo>
                <a:lnTo>
                  <a:pt x="4500562" y="750109"/>
                </a:lnTo>
                <a:lnTo>
                  <a:pt x="4500562" y="4929188"/>
                </a:lnTo>
                <a:lnTo>
                  <a:pt x="0" y="492918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95280" y="33336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DOS SISTEMAS FRAGMENTADOS PARA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S REDES DE ATENÇÃO À SAÚD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-71280" y="65008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MENDES (2009)</a:t>
            </a:r>
            <a:r>
              <a:rPr b="1" lang="pt-BR" sz="1400" spc="-1" strike="noStrike">
                <a:solidFill>
                  <a:srgbClr val="000066"/>
                </a:solidFill>
                <a:latin typeface="Garamond"/>
              </a:rPr>
              <a:t>                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Grupo 73"/>
          <p:cNvGrpSpPr/>
          <p:nvPr/>
        </p:nvGrpSpPr>
        <p:grpSpPr>
          <a:xfrm>
            <a:off x="428760" y="1714680"/>
            <a:ext cx="8428680" cy="4500360"/>
            <a:chOff x="428760" y="1714680"/>
            <a:chExt cx="8428680" cy="4500360"/>
          </a:xfrm>
        </p:grpSpPr>
        <p:sp>
          <p:nvSpPr>
            <p:cNvPr id="159" name="Text Box 4"/>
            <p:cNvSpPr/>
            <p:nvPr/>
          </p:nvSpPr>
          <p:spPr>
            <a:xfrm>
              <a:off x="428760" y="1714680"/>
              <a:ext cx="371448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41040" bIns="41040" anchor="t">
              <a:sp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392040"/>
                  <a:tab algn="l" pos="785880"/>
                  <a:tab algn="l" pos="1179360"/>
                  <a:tab algn="l" pos="1574640"/>
                  <a:tab algn="l" pos="1968480"/>
                  <a:tab algn="l" pos="2362320"/>
                  <a:tab algn="l" pos="2755800"/>
                  <a:tab algn="l" pos="3149640"/>
                  <a:tab algn="l" pos="3543480"/>
                  <a:tab algn="l" pos="3936960"/>
                  <a:tab algn="l" pos="4330800"/>
                  <a:tab algn="l" pos="4724280"/>
                  <a:tab algn="l" pos="5119560"/>
                  <a:tab algn="l" pos="5513400"/>
                  <a:tab algn="l" pos="5907240"/>
                  <a:tab algn="l" pos="6300720"/>
                  <a:tab algn="l" pos="6694560"/>
                  <a:tab algn="l" pos="7088040"/>
                  <a:tab algn="l" pos="7481880"/>
                  <a:tab algn="l" pos="7875720"/>
                  <a:tab algn="l" pos="8267760"/>
                  <a:tab algn="l" pos="8661240"/>
                  <a:tab algn="l" pos="9055080"/>
                  <a:tab algn="l" pos="9448920"/>
                  <a:tab algn="l" pos="9842400"/>
                  <a:tab algn="l" pos="10236240"/>
                  <a:tab algn="l" pos="10630080"/>
                </a:tabLst>
              </a:pPr>
              <a:r>
                <a:rPr b="1" lang="en-GB" sz="2400" spc="-1" strike="noStrike">
                  <a:solidFill>
                    <a:srgbClr val="000514"/>
                  </a:solidFill>
                  <a:latin typeface="Garamond"/>
                </a:rPr>
                <a:t>SISTEMA FRAGMENTADO E  HIERARQUIZADO</a:t>
              </a:r>
              <a:endParaRPr b="1" lang="en-US" sz="24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4929120" y="1854720"/>
              <a:ext cx="363816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41040" bIns="41040" anchor="t">
              <a:sp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392040"/>
                  <a:tab algn="l" pos="785880"/>
                  <a:tab algn="l" pos="1179360"/>
                  <a:tab algn="l" pos="1574640"/>
                  <a:tab algn="l" pos="1968480"/>
                  <a:tab algn="l" pos="2362320"/>
                  <a:tab algn="l" pos="2755800"/>
                  <a:tab algn="l" pos="3149640"/>
                  <a:tab algn="l" pos="3543480"/>
                  <a:tab algn="l" pos="3936960"/>
                  <a:tab algn="l" pos="4330800"/>
                  <a:tab algn="l" pos="4724280"/>
                  <a:tab algn="l" pos="5119560"/>
                  <a:tab algn="l" pos="5513400"/>
                  <a:tab algn="l" pos="5907240"/>
                  <a:tab algn="l" pos="6300720"/>
                  <a:tab algn="l" pos="6694560"/>
                  <a:tab algn="l" pos="7088040"/>
                  <a:tab algn="l" pos="7481880"/>
                  <a:tab algn="l" pos="7875720"/>
                  <a:tab algn="l" pos="8267760"/>
                  <a:tab algn="l" pos="8661240"/>
                  <a:tab algn="l" pos="9055080"/>
                  <a:tab algn="l" pos="9448920"/>
                  <a:tab algn="l" pos="9842400"/>
                  <a:tab algn="l" pos="10236240"/>
                  <a:tab algn="l" pos="10630080"/>
                </a:tabLst>
              </a:pPr>
              <a:r>
                <a:rPr b="1" lang="en-GB" sz="2400" spc="-1" strike="noStrike">
                  <a:solidFill>
                    <a:srgbClr val="000514"/>
                  </a:solidFill>
                  <a:latin typeface="Garamond"/>
                </a:rPr>
                <a:t>REDES POLIÁRQUICAS DE ATENÇÃO À SAÚDE</a:t>
              </a:r>
              <a:endParaRPr b="1" lang="en-US" sz="24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14840" y="4000680"/>
              <a:ext cx="1295280" cy="698400"/>
            </a:xfrm>
            <a:prstGeom prst="rightArrow">
              <a:avLst>
                <a:gd name="adj1" fmla="val 50000"/>
                <a:gd name="adj2" fmla="val 58472"/>
              </a:avLst>
            </a:prstGeom>
            <a:solidFill>
              <a:srgbClr val="002060"/>
            </a:solidFill>
            <a:ln w="9360">
              <a:solidFill>
                <a:srgbClr val="ffffff"/>
              </a:solidFill>
              <a:round/>
            </a:ln>
            <a:effectLst>
              <a:outerShdw dist="50760" dir="5400000" blurRad="0" rotWithShape="0">
                <a:srgbClr val="36363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grpSp>
          <p:nvGrpSpPr>
            <p:cNvPr id="162" name="Group 8"/>
            <p:cNvGrpSpPr/>
            <p:nvPr/>
          </p:nvGrpSpPr>
          <p:grpSpPr>
            <a:xfrm>
              <a:off x="5102640" y="2756160"/>
              <a:ext cx="3754800" cy="3458880"/>
              <a:chOff x="5102640" y="2756160"/>
              <a:chExt cx="3754800" cy="3458880"/>
            </a:xfrm>
          </p:grpSpPr>
          <p:sp>
            <p:nvSpPr>
              <p:cNvPr id="163" name="Oval 9"/>
              <p:cNvSpPr/>
              <p:nvPr/>
            </p:nvSpPr>
            <p:spPr>
              <a:xfrm>
                <a:off x="8006760" y="3786840"/>
                <a:ext cx="850680" cy="835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574320" y="4200120"/>
                <a:ext cx="848880" cy="87408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5" name="Oval 11"/>
              <p:cNvSpPr/>
              <p:nvPr/>
            </p:nvSpPr>
            <p:spPr>
              <a:xfrm>
                <a:off x="6552360" y="2756160"/>
                <a:ext cx="853560" cy="78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6" name="Oval 12"/>
              <p:cNvSpPr/>
              <p:nvPr/>
            </p:nvSpPr>
            <p:spPr>
              <a:xfrm>
                <a:off x="5685840" y="5333760"/>
                <a:ext cx="848880" cy="838440"/>
              </a:xfrm>
              <a:prstGeom prst="ellipse">
                <a:avLst/>
              </a:prstGeom>
              <a:solidFill>
                <a:srgbClr val="7030a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7" name="Oval 13"/>
              <p:cNvSpPr/>
              <p:nvPr/>
            </p:nvSpPr>
            <p:spPr>
              <a:xfrm>
                <a:off x="5102640" y="3786840"/>
                <a:ext cx="847440" cy="817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8" name="Text Box 14"/>
              <p:cNvSpPr/>
              <p:nvPr/>
            </p:nvSpPr>
            <p:spPr>
              <a:xfrm>
                <a:off x="6571080" y="4428720"/>
                <a:ext cx="89460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41040" bIns="41040" anchor="t">
                <a:spAutoFit/>
              </a:bodyPr>
              <a:p>
                <a:pPr algn="ctr">
                  <a:spcBef>
                    <a:spcPts val="986"/>
                  </a:spcBef>
                  <a:tabLst>
                    <a:tab algn="l" pos="0"/>
                    <a:tab algn="l" pos="392040"/>
                    <a:tab algn="l" pos="785880"/>
                    <a:tab algn="l" pos="11793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9560"/>
                    <a:tab algn="l" pos="5513400"/>
                    <a:tab algn="l" pos="5907240"/>
                    <a:tab algn="l" pos="6300720"/>
                    <a:tab algn="l" pos="6694560"/>
                    <a:tab algn="l" pos="7088040"/>
                    <a:tab algn="l" pos="7481880"/>
                    <a:tab algn="l" pos="7875720"/>
                    <a:tab algn="l" pos="8267760"/>
                    <a:tab algn="l" pos="8661240"/>
                    <a:tab algn="l" pos="9055080"/>
                    <a:tab algn="l" pos="9448920"/>
                    <a:tab algn="l" pos="9842400"/>
                    <a:tab algn="l" pos="10236240"/>
                    <a:tab algn="l" pos="1063008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Garamond"/>
                  </a:rPr>
                  <a:t>APS</a:t>
                </a:r>
                <a:endParaRPr b="1" lang="en-US" sz="24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69" name="Line 15"/>
              <p:cNvSpPr/>
              <p:nvPr/>
            </p:nvSpPr>
            <p:spPr>
              <a:xfrm>
                <a:off x="5613480" y="4622760"/>
                <a:ext cx="290880" cy="707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0" name="Line 16"/>
              <p:cNvSpPr/>
              <p:nvPr/>
            </p:nvSpPr>
            <p:spPr>
              <a:xfrm>
                <a:off x="7453440" y="3355920"/>
                <a:ext cx="583200" cy="494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1" name="Line 17"/>
              <p:cNvSpPr/>
              <p:nvPr/>
            </p:nvSpPr>
            <p:spPr>
              <a:xfrm flipH="1">
                <a:off x="7976520" y="4685040"/>
                <a:ext cx="265320" cy="673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2" name="Line 18"/>
              <p:cNvSpPr/>
              <p:nvPr/>
            </p:nvSpPr>
            <p:spPr>
              <a:xfrm flipH="1" flipV="1">
                <a:off x="6610320" y="5766840"/>
                <a:ext cx="763920" cy="23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3" name="Line 19"/>
              <p:cNvSpPr/>
              <p:nvPr/>
            </p:nvSpPr>
            <p:spPr>
              <a:xfrm flipV="1">
                <a:off x="5904360" y="3391560"/>
                <a:ext cx="729360" cy="4626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4" name="Line 20"/>
              <p:cNvSpPr/>
              <p:nvPr/>
            </p:nvSpPr>
            <p:spPr>
              <a:xfrm flipH="1">
                <a:off x="6369840" y="4983120"/>
                <a:ext cx="342720" cy="412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5" name="Line 21"/>
              <p:cNvSpPr/>
              <p:nvPr/>
            </p:nvSpPr>
            <p:spPr>
              <a:xfrm>
                <a:off x="5942160" y="4334400"/>
                <a:ext cx="619200" cy="160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>
                <a:off x="7000560" y="3591720"/>
                <a:ext cx="0" cy="5803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7" name="Line 23"/>
              <p:cNvSpPr/>
              <p:nvPr/>
            </p:nvSpPr>
            <p:spPr>
              <a:xfrm flipV="1">
                <a:off x="7435800" y="4357440"/>
                <a:ext cx="509400" cy="2062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7435800" y="5396040"/>
                <a:ext cx="848880" cy="819000"/>
              </a:xfrm>
              <a:prstGeom prst="ellipse">
                <a:avLst/>
              </a:prstGeom>
              <a:solidFill>
                <a:srgbClr val="00206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51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  <p:sp>
            <p:nvSpPr>
              <p:cNvPr id="179" name="Line 25"/>
              <p:cNvSpPr/>
              <p:nvPr/>
            </p:nvSpPr>
            <p:spPr>
              <a:xfrm>
                <a:off x="7217280" y="5073120"/>
                <a:ext cx="364680" cy="387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e5e5ff"/>
                  </a:solidFill>
                  <a:latin typeface="Garamond"/>
                </a:endParaRPr>
              </a:p>
            </p:txBody>
          </p:sp>
        </p:grpSp>
        <p:sp>
          <p:nvSpPr>
            <p:cNvPr id="180" name="Line 31"/>
            <p:cNvSpPr/>
            <p:nvPr/>
          </p:nvSpPr>
          <p:spPr>
            <a:xfrm>
              <a:off x="1865160" y="3793320"/>
              <a:ext cx="9194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>
              <a:off x="1310040" y="4992840"/>
              <a:ext cx="2080800" cy="1296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23040" anchor="t">
              <a:noAutofit/>
            </a:bodyPr>
            <a:p>
              <a:endParaRPr b="1" lang="en-US" sz="60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182" name="Retângulo com Único Canto Aparado 37"/>
          <p:cNvSpPr/>
          <p:nvPr/>
        </p:nvSpPr>
        <p:spPr>
          <a:xfrm>
            <a:off x="571680" y="1500120"/>
            <a:ext cx="8572320" cy="4572000"/>
          </a:xfrm>
          <a:custGeom>
            <a:avLst/>
            <a:gdLst>
              <a:gd name="textAreaLeft" fmla="*/ 0 w 8572320"/>
              <a:gd name="textAreaRight" fmla="*/ 8191440 w 8572320"/>
              <a:gd name="textAreaTop" fmla="*/ 380880 h 4572000"/>
              <a:gd name="textAreaBottom" fmla="*/ 4572360 h 4572000"/>
            </a:gdLst>
            <a:ahLst/>
            <a:rect l="textAreaLeft" t="textAreaTop" r="textAreaRight" b="textAreaBottom"/>
            <a:pathLst>
              <a:path w="8572500" h="4572000">
                <a:moveTo>
                  <a:pt x="0" y="0"/>
                </a:moveTo>
                <a:lnTo>
                  <a:pt x="7810485" y="0"/>
                </a:lnTo>
                <a:lnTo>
                  <a:pt x="8572500" y="762015"/>
                </a:lnTo>
                <a:lnTo>
                  <a:pt x="8572500" y="4572000"/>
                </a:lnTo>
                <a:lnTo>
                  <a:pt x="0" y="45720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Retângulo com Canto Diagonal Aparado 38"/>
          <p:cNvSpPr/>
          <p:nvPr/>
        </p:nvSpPr>
        <p:spPr>
          <a:xfrm>
            <a:off x="285840" y="1571760"/>
            <a:ext cx="4143240" cy="3071520"/>
          </a:xfrm>
          <a:custGeom>
            <a:avLst/>
            <a:gdLst>
              <a:gd name="textAreaLeft" fmla="*/ 255960 w 4143240"/>
              <a:gd name="textAreaRight" fmla="*/ 3887280 w 4143240"/>
              <a:gd name="textAreaTop" fmla="*/ 255960 h 3071520"/>
              <a:gd name="textAreaBottom" fmla="*/ 2815560 h 3071520"/>
            </a:gdLst>
            <a:ahLst/>
            <a:rect l="textAreaLeft" t="textAreaTop" r="textAreaRight" b="textAreaBottom"/>
            <a:pathLst>
              <a:path w="4143375" h="3071813">
                <a:moveTo>
                  <a:pt x="0" y="0"/>
                </a:moveTo>
                <a:lnTo>
                  <a:pt x="3631396" y="0"/>
                </a:lnTo>
                <a:lnTo>
                  <a:pt x="4143375" y="511979"/>
                </a:lnTo>
                <a:lnTo>
                  <a:pt x="4143375" y="3071813"/>
                </a:lnTo>
                <a:lnTo>
                  <a:pt x="4143375" y="3071813"/>
                </a:lnTo>
                <a:lnTo>
                  <a:pt x="511979" y="3071813"/>
                </a:lnTo>
                <a:lnTo>
                  <a:pt x="0" y="255983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Diagrama 41" descr=""/>
          <p:cNvPicPr/>
          <p:nvPr/>
        </p:nvPicPr>
        <p:blipFill>
          <a:blip r:embed="rId1"/>
          <a:stretch/>
        </p:blipFill>
        <p:spPr>
          <a:xfrm>
            <a:off x="146160" y="2951280"/>
            <a:ext cx="430344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96920" y="285840"/>
            <a:ext cx="87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ATENÇÃO PRIMÁRIA À SAÚDE NO SISTEMA PÚBLICO DE SAÚDE BRASILEIR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6" name="Diagrama 7" descr=""/>
          <p:cNvPicPr/>
          <p:nvPr/>
        </p:nvPicPr>
        <p:blipFill>
          <a:blip r:embed="rId1"/>
          <a:stretch/>
        </p:blipFill>
        <p:spPr>
          <a:xfrm>
            <a:off x="115920" y="1494000"/>
            <a:ext cx="8905680" cy="501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-1214280" y="642924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MENDES (2002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O SUS como Escola: O  caso do Curso de Medicina da UFOP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Foco nas diretrizes em saúde preconizadas pelo Programa Nacional de Reorientação da Formação Profissional em Saúde (PRÓ-SAÚDE), elaborado de forma conjunta pelos Ministérios da Saúde e Educação, lançado em Novembro de 2005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utorizado pelo MEC a partir do segundo semestre de 2007 e reconhecido em 2011,propõe trabalhar a formação do médico em estreita articulação com os serviços públicos de saúde, com o propósito de buscar respostas para as necessidades concretas da população brasileir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Obje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Formar um profissional médico com uma visão humanística com conhecimentos fundamentais nas áreas de </a:t>
            </a:r>
            <a:r>
              <a:rPr b="0" lang="pt-BR" sz="3200" spc="-1" strike="noStrike">
                <a:solidFill>
                  <a:srgbClr val="ffff99"/>
                </a:solidFill>
                <a:latin typeface="Garamond"/>
              </a:rPr>
              <a:t>Cirurgia, Ginecologia e Obstetrícia, Pediatria, Clínica Médica e Saúde Coletiva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, que o tornem competente para prestar assistência médica de qualidade, para atuar na promoção da saúde, na prevenção das doenças,na recuperação e reabilitação dos pacientes, e nas diversas interfaces da Saúde Coletiv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Principais características do Curso de Medicina da UF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nserção  do aluno na rede de serviços de saú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ciplinas da Área de Ciências Biológicas Integra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teúdo de Saúde Coletiva e Ciências Humanas permeando a aprendizagem nos diversos períodos do cur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ática em Serviços nas unidades do Sistema de Saúde regionais em Atenção Primária,Secundária e Terci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1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Anatomia Humana Bás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enética Bás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Bases Moleculares da Célu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Saúde e Socieda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Prática em Serviços de Saúde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mática em Saúde Coletiv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ropologia e Introdução às Políticas de Saú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Prática em Serviços de Saúde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08-11-07_1052"/>
          <p:cNvPicPr/>
          <p:nvPr/>
        </p:nvPicPr>
        <p:blipFill>
          <a:blip r:embed="rId1"/>
          <a:stretch/>
        </p:blipFill>
        <p:spPr>
          <a:xfrm>
            <a:off x="1371600" y="1447920"/>
            <a:ext cx="659592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Prática em Serviços de Saúde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Espaço Reservado para Conteúdo 11" descr="P1012220.JPG"/>
          <p:cNvPicPr/>
          <p:nvPr/>
        </p:nvPicPr>
        <p:blipFill>
          <a:blip r:embed="rId1"/>
          <a:stretch/>
        </p:blipFill>
        <p:spPr>
          <a:xfrm>
            <a:off x="3929040" y="2428920"/>
            <a:ext cx="4038480" cy="3027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3"/>
          <p:cNvGrpSpPr/>
          <p:nvPr/>
        </p:nvGrpSpPr>
        <p:grpSpPr>
          <a:xfrm>
            <a:off x="785880" y="2214720"/>
            <a:ext cx="2493720" cy="3600000"/>
            <a:chOff x="785880" y="2214720"/>
            <a:chExt cx="2493720" cy="3600000"/>
          </a:xfrm>
        </p:grpSpPr>
        <p:pic>
          <p:nvPicPr>
            <p:cNvPr id="201" name="Picture 9" descr="fachadafuned"/>
            <p:cNvPicPr/>
            <p:nvPr/>
          </p:nvPicPr>
          <p:blipFill>
            <a:blip r:embed="rId2"/>
            <a:stretch/>
          </p:blipFill>
          <p:spPr>
            <a:xfrm>
              <a:off x="785880" y="2214720"/>
              <a:ext cx="2493720" cy="29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0" descr="Funed Logo"/>
            <p:cNvPicPr/>
            <p:nvPr/>
          </p:nvPicPr>
          <p:blipFill>
            <a:blip r:embed="rId3"/>
            <a:stretch/>
          </p:blipFill>
          <p:spPr>
            <a:xfrm>
              <a:off x="785880" y="5169600"/>
              <a:ext cx="2493720" cy="64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2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unologia Bás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Estrutura e Função de Tecidos e Órgãos I: 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Embriologia,  Citohistologia,  Fisiologia e Bioquímica dos Sistemas Nervoso, Endócrino-reprodutor, Hematopoiético e Imunológico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Medicina, Ciência e Socied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rática em Serviços de Saúde 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atomia Médica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ática em Saúde Cole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pistemologia e Metodologia   Científic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ducação e Promoção da Saú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usuario\Desktop\P1013519.JPG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3485880"/>
          </a:xfrm>
          <a:prstGeom prst="rect">
            <a:avLst/>
          </a:prstGeom>
          <a:ln w="0">
            <a:noFill/>
          </a:ln>
        </p:spPr>
      </p:pic>
      <p:sp>
        <p:nvSpPr>
          <p:cNvPr id="206" name="CaixaDeTexto 3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Encontro Didático Científic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C:\Users\usuario\Desktop\P1013691.JPG"/>
          <p:cNvPicPr/>
          <p:nvPr/>
        </p:nvPicPr>
        <p:blipFill>
          <a:blip r:embed="rId2"/>
          <a:stretch/>
        </p:blipFill>
        <p:spPr>
          <a:xfrm>
            <a:off x="44956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4280" y="1571400"/>
            <a:ext cx="67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SITUAÇÃO DA SAÚDE EM MINAS GERA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18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SITUAÇÃO DEMOGRÁF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CARGA DE DOENÇ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3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Estrutura e Função de Tecidos e Órgãos II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Embriologia,  Citohistologia, Fisiologia e Bioquímica dos Sistemas Cardiovascular, Respiratório e Urinári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Microbiol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Parasitol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Bioestatís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sicologia Mé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atomia Médica 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áticas em Saúde Coletiva e Humanidad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biologia e Parasitologia aplicadas à Saúde Pública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 Médico e o Estudante diante da Doença e da Mor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4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Modelos Explicativos do Processo Saúde e Doenç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Epidemiol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Estrutura e Função de Tecidos e Órgãos III: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Embriologia,  Citohistologia, Fisiologia e Bioquímica dos Sistemas Digestivo, Locomotor e Tegumenta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Princípios de Terapêutica e Farmacol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Patologia GeraI Mé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natomia Médica I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ática em Saúde Coletiva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olução do conhecimen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m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pidemiologia;Aplicação do Método Epidemiológi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5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Saúde Mental I*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Semiologia I*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Epidemiologia nos Serviços de Saúde*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Garamond"/>
              </a:rPr>
              <a:t>Anatomia Patológica I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uporte Básico de Vid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	</a:t>
            </a: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*</a:t>
            </a:r>
            <a:r>
              <a:rPr b="0" lang="en-US" sz="30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rticulação com o SUS dentro do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entro de Saúde Escola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	</a:t>
            </a: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* *</a:t>
            </a:r>
            <a:r>
              <a:rPr b="0" lang="pt-BR" sz="3000" spc="-1" strike="noStrike">
                <a:solidFill>
                  <a:srgbClr val="ffffff"/>
                </a:solidFill>
                <a:latin typeface="Garamond"/>
              </a:rPr>
              <a:t>Avaliação de banco de dado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pt-BR" sz="3000" spc="-1" strike="noStrike">
                <a:solidFill>
                  <a:srgbClr val="ffffff"/>
                </a:solidFill>
                <a:latin typeface="Garamond"/>
              </a:rPr>
              <a:t>epidemiológicos  do SU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6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Semiologia II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Anatomia Patológica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Políticas, Planejamento e Gestão em Saúde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c000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Articulação com o SUS em unidades da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rede municipal de saú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7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Medicina Geral da Criança I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Medicina Geral de Adultos I*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Garamond"/>
              </a:rPr>
              <a:t>Patologia Clínica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Garamond"/>
              </a:rPr>
              <a:t>Saúde Mental II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Garamond"/>
              </a:rPr>
              <a:t>Vigilância em Saúde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Garamond"/>
              </a:rPr>
              <a:t>Radiologia e Métodos de Imagem*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Garamond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rticulação com o SUS em unidades da rede municipal de saúd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8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Medicina Geral da Criança II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Medicina Geral de Adultos II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Medicina da Mulher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Clínica Cirúrgica I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Articulação com o SUS em unidades da rede municipal de saú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- 9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Clínica Cirúrgica II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Medicina de Família e Comunidade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Atenção Secundária em Saúde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Medicina Legal e Deontologia Méd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Saúde, Trabalho e Meio Ambiente*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*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culação com o SUS em unidades 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e municipal de saú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Garamond"/>
              </a:rPr>
              <a:t>* *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 construçã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Medicina de Família e Comunidad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Estágios em PSF nos Municípios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Garamond"/>
              </a:rPr>
              <a:t>Mari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Ouro Pre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Atenção Secundária em Saú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Diagrama 5" descr=""/>
          <p:cNvPicPr/>
          <p:nvPr/>
        </p:nvPicPr>
        <p:blipFill>
          <a:blip r:embed="rId1"/>
          <a:stretch/>
        </p:blipFill>
        <p:spPr>
          <a:xfrm>
            <a:off x="785880" y="1249200"/>
            <a:ext cx="7553160" cy="549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– 10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Internato em Cirurgia I (Cirurgia Geral)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Hospitais Arnaldo Gavazza e Nossa Senhora das Dores de Ponte Nov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Santa Casa de Ouro Preto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Hospital Monsenhor Horta de </a:t>
            </a: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Marian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Internato  Hospitalar em Clínica Médic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1150920" indent="-4950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Hospitais Arnaldo Gavazza e Nossa Senhora das Dores de Ponte Nov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1150920" indent="-495000">
              <a:lnSpc>
                <a:spcPct val="90000"/>
              </a:lnSpc>
              <a:spcBef>
                <a:spcPts val="575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Santa Casa de Ouro Preto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de cantos arredondados 21"/>
          <p:cNvSpPr/>
          <p:nvPr/>
        </p:nvSpPr>
        <p:spPr>
          <a:xfrm>
            <a:off x="357120" y="5072040"/>
            <a:ext cx="8572680" cy="1214640"/>
          </a:xfrm>
          <a:prstGeom prst="roundRect">
            <a:avLst>
              <a:gd name="adj" fmla="val 16667"/>
            </a:avLst>
          </a:prstGeom>
          <a:solidFill>
            <a:srgbClr val="0000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1360" y="1584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-166680" y="34012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e5e5ff"/>
                </a:solidFill>
                <a:latin typeface="Garamond"/>
                <a:ea typeface="Times New Roman"/>
              </a:rPr>
              <a:t>  </a:t>
            </a:r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51960" y="6366240"/>
            <a:ext cx="19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  <a:ea typeface="Times New Roman"/>
              </a:rPr>
              <a:t>FONTE: IBGE (2004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16000" y="263520"/>
            <a:ext cx="691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TRANSIÇÃO DEMOGRÁFICA EM MINAS GERA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20640" y="5286240"/>
          <a:ext cx="8023320" cy="838440"/>
        </p:xfrm>
        <a:graphic>
          <a:graphicData uri="http://schemas.openxmlformats.org/drawingml/2006/table">
            <a:tbl>
              <a:tblPr/>
              <a:tblGrid>
                <a:gridCol w="3470400"/>
                <a:gridCol w="1373040"/>
                <a:gridCol w="317988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 da população idosa</a:t>
                      </a:r>
                      <a:endParaRPr b="1" lang="en-US" sz="2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G</a:t>
                      </a:r>
                      <a:endParaRPr b="1" lang="en-US" sz="2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 a 2030</a:t>
                      </a:r>
                      <a:endParaRPr b="1" lang="en-US" sz="14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 da população idosa</a:t>
                      </a:r>
                      <a:endParaRPr b="1" lang="en-US" sz="2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7 milhões de pessoas</a:t>
                      </a:r>
                      <a:endParaRPr b="1" lang="en-US" sz="2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4 milhões de pessoas</a:t>
                      </a:r>
                      <a:endParaRPr b="1" lang="en-US" sz="20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7" descr="1980"/>
          <p:cNvPicPr/>
          <p:nvPr/>
        </p:nvPicPr>
        <p:blipFill>
          <a:blip r:embed="rId1"/>
          <a:stretch/>
        </p:blipFill>
        <p:spPr>
          <a:xfrm>
            <a:off x="1200240" y="1341360"/>
            <a:ext cx="2262240" cy="14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2030"/>
          <p:cNvPicPr/>
          <p:nvPr/>
        </p:nvPicPr>
        <p:blipFill>
          <a:blip r:embed="rId2"/>
          <a:stretch/>
        </p:blipFill>
        <p:spPr>
          <a:xfrm>
            <a:off x="6778800" y="3139920"/>
            <a:ext cx="2268360" cy="149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1990"/>
          <p:cNvPicPr/>
          <p:nvPr/>
        </p:nvPicPr>
        <p:blipFill>
          <a:blip r:embed="rId3"/>
          <a:stretch/>
        </p:blipFill>
        <p:spPr>
          <a:xfrm>
            <a:off x="3486240" y="1341360"/>
            <a:ext cx="2268360" cy="149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2000"/>
          <p:cNvPicPr/>
          <p:nvPr/>
        </p:nvPicPr>
        <p:blipFill>
          <a:blip r:embed="rId4"/>
          <a:stretch/>
        </p:blipFill>
        <p:spPr>
          <a:xfrm>
            <a:off x="5778360" y="1341360"/>
            <a:ext cx="2268720" cy="149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" descr="2005"/>
          <p:cNvPicPr/>
          <p:nvPr/>
        </p:nvPicPr>
        <p:blipFill>
          <a:blip r:embed="rId5"/>
          <a:stretch/>
        </p:blipFill>
        <p:spPr>
          <a:xfrm>
            <a:off x="244440" y="3139920"/>
            <a:ext cx="2260800" cy="149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2" descr="2010"/>
          <p:cNvPicPr/>
          <p:nvPr/>
        </p:nvPicPr>
        <p:blipFill>
          <a:blip r:embed="rId6"/>
          <a:stretch/>
        </p:blipFill>
        <p:spPr>
          <a:xfrm>
            <a:off x="2419200" y="3139920"/>
            <a:ext cx="2262240" cy="149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2020"/>
          <p:cNvPicPr/>
          <p:nvPr/>
        </p:nvPicPr>
        <p:blipFill>
          <a:blip r:embed="rId7"/>
          <a:stretch/>
        </p:blipFill>
        <p:spPr>
          <a:xfrm>
            <a:off x="4602240" y="3139920"/>
            <a:ext cx="2262240" cy="1492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1979640" y="2708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198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284720" y="2708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199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6588000" y="2732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200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Text Box 37"/>
          <p:cNvSpPr/>
          <p:nvPr/>
        </p:nvSpPr>
        <p:spPr>
          <a:xfrm>
            <a:off x="1044720" y="4532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2005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3205080" y="4532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201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5364000" y="45086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202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7572240" y="4532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5e5ff"/>
                </a:solidFill>
                <a:latin typeface="Garamond"/>
              </a:rPr>
              <a:t>2030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– 11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ternato  Hospitalar em Pediat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Hospital Monsenhor Horta de Maria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Santa Casa de Ouro Pre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Hospital Nossa Senhora das Dores de Ponte Nov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ternato Ambulatorial e Hospitalar em  Ginecologia e Obstetrí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Hospital Monsenhor Horta de Maria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Hospital Nossa Senhora das Dores de Ponte N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aramond"/>
              </a:rPr>
              <a:t>Grade curricular – 12º perío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Internato Ambulatorial e Hospitalar em Cirurgia II (Urgência e Emergência)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Hospital Margarida de João Monlevad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Hospital João XIII de Belo Horizont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Internato em Saúde Coletiva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Microregião de Itabirito(Itabirito, Ouro Preto e Mariana)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pt-BR" sz="2300" spc="-1" strike="noStrike">
                <a:solidFill>
                  <a:srgbClr val="ffffff"/>
                </a:solidFill>
                <a:latin typeface="Calibri"/>
              </a:rPr>
              <a:t>Macroregião de Ponte Nova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11" descr="IMG_2671"/>
          <p:cNvPicPr/>
          <p:nvPr/>
        </p:nvPicPr>
        <p:blipFill>
          <a:blip r:embed="rId1"/>
          <a:stretch/>
        </p:blipFill>
        <p:spPr>
          <a:xfrm>
            <a:off x="428760" y="3614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HNSdORES pnova"/>
          <p:cNvPicPr/>
          <p:nvPr/>
        </p:nvPicPr>
        <p:blipFill>
          <a:blip r:embed="rId2"/>
          <a:stretch/>
        </p:blipFill>
        <p:spPr>
          <a:xfrm>
            <a:off x="4619520" y="3571920"/>
            <a:ext cx="4167360" cy="3125880"/>
          </a:xfrm>
          <a:prstGeom prst="rect">
            <a:avLst/>
          </a:prstGeom>
          <a:ln w="0">
            <a:noFill/>
          </a:ln>
        </p:spPr>
      </p:pic>
      <p:pic>
        <p:nvPicPr>
          <p:cNvPr id="236" name="Espaço Reservado para Conteúdo 7" descr="VISITA MEDICINA 020.jpg"/>
          <p:cNvPicPr/>
          <p:nvPr/>
        </p:nvPicPr>
        <p:blipFill>
          <a:blip r:embed="rId3"/>
          <a:stretch/>
        </p:blipFill>
        <p:spPr>
          <a:xfrm>
            <a:off x="428760" y="357120"/>
            <a:ext cx="4002120" cy="300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MSHORTA"/>
          <p:cNvPicPr/>
          <p:nvPr/>
        </p:nvPicPr>
        <p:blipFill>
          <a:blip r:embed="rId4"/>
          <a:stretch/>
        </p:blipFill>
        <p:spPr>
          <a:xfrm>
            <a:off x="4714920" y="328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219320"/>
          <a:ext cx="8534160" cy="4721040"/>
        </p:xfrm>
        <a:graphic>
          <a:graphicData uri="http://schemas.openxmlformats.org/drawingml/2006/table">
            <a:tbl>
              <a:tblPr/>
              <a:tblGrid>
                <a:gridCol w="2590560"/>
                <a:gridCol w="2362320"/>
                <a:gridCol w="1905120"/>
                <a:gridCol w="1676160"/>
              </a:tblGrid>
              <a:tr h="114300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MPONENTES CURRICULARES</a:t>
                      </a:r>
                      <a:endParaRPr b="1" lang="en-US" sz="24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QUANTIDADE</a:t>
                      </a:r>
                      <a:endParaRPr b="1" lang="en-US" sz="24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RÉDITOS</a:t>
                      </a:r>
                      <a:endParaRPr b="1" lang="en-US" sz="24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ARGA HORÁRIA</a:t>
                      </a:r>
                      <a:endParaRPr b="1" lang="en-US" sz="24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159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sciplinas Obrigatórias </a:t>
                      </a:r>
                      <a:endParaRPr b="1" lang="en-US" sz="28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305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</a:tr>
              <a:tr h="9907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sciplinas Eletivas</a:t>
                      </a:r>
                      <a:endParaRPr b="1" lang="en-US" sz="28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</a:tr>
              <a:tr h="80964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tágios</a:t>
                      </a:r>
                      <a:endParaRPr b="1" lang="en-US" sz="28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592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</a:tr>
              <a:tr h="76176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lang="en-US" sz="28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257</a:t>
                      </a:r>
                      <a:endParaRPr b="1" lang="en-US" sz="36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afe0"/>
                    </a:solidFill>
                  </a:tcPr>
                </a:tc>
              </a:tr>
            </a:tbl>
          </a:graphicData>
        </a:graphic>
      </p:graphicFrame>
      <p:sp>
        <p:nvSpPr>
          <p:cNvPr id="239" name="CaixaDeTexto 11"/>
          <p:cNvSpPr/>
          <p:nvPr/>
        </p:nvSpPr>
        <p:spPr>
          <a:xfrm>
            <a:off x="228600" y="5715000"/>
            <a:ext cx="8686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1" lang="en-US" sz="1900" spc="-1" strike="noStrike">
              <a:solidFill>
                <a:srgbClr val="e5e5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e5e5ff"/>
                </a:solidFill>
                <a:latin typeface="Garamond"/>
              </a:rPr>
              <a:t>OBSERVAÇÃO: Os Estágios/Internatos serão cumpridos em períodos de 24 semanas. </a:t>
            </a:r>
            <a:endParaRPr b="1" lang="en-US" sz="1900" spc="-1" strike="noStrike">
              <a:solidFill>
                <a:srgbClr val="e5e5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CaixaDeTexto 12"/>
          <p:cNvSpPr/>
          <p:nvPr/>
        </p:nvSpPr>
        <p:spPr>
          <a:xfrm>
            <a:off x="380880" y="3808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urso de Medicina - UF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457200" y="457200"/>
          <a:ext cx="8381880" cy="53402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15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INAL VERMELH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ticas restritas a Hospitais Universitários 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c4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INAL VERMELH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eensão de saúde baseada em doenças da “moda”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9c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INAL VERMELH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ticas pedagógicas tradicionais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ed6"/>
                    </a:solidFill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AL AMAREL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ticas em Hospitais e Centros de Saúde Escola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c4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AL AMAREL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ção de saúde baseada em doenças “comuns”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9c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AL AMAREL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ção de algumas inovações educacionais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ed6"/>
                    </a:solidFill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NAL VERDE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ticas na rede local de serviços de saúde e na comunidade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c4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NAL VERDE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ito de produção social de saúde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09c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NAL VERDE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dante construindo criticamente o próprio conhecimento</a:t>
                      </a:r>
                      <a:endParaRPr b="1" lang="en-US" sz="2200" spc="-1" strike="noStrike">
                        <a:solidFill>
                          <a:srgbClr val="e5e5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ed6"/>
                    </a:solidFill>
                  </a:tcPr>
                </a:tc>
              </a:tr>
            </a:tbl>
          </a:graphicData>
        </a:graphic>
      </p:graphicFrame>
      <p:sp>
        <p:nvSpPr>
          <p:cNvPr id="242" name="Text Box 44"/>
          <p:cNvSpPr/>
          <p:nvPr/>
        </p:nvSpPr>
        <p:spPr>
          <a:xfrm>
            <a:off x="457200" y="5943600"/>
            <a:ext cx="830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CAMPOS, Francisco E. Aderência do curso de graduação em Medicina às Diretrizes Curriculares Nacionais. In: II Congresso Mineiro de Educação Médica. Uberaba, 25 a 27 de Maio de 2007. UFTM.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uman_resources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0" name="Picture 18" descr="C:\Users\usuario\Desktop\Noturna1.jpg"/>
          <p:cNvPicPr/>
          <p:nvPr/>
        </p:nvPicPr>
        <p:blipFill>
          <a:blip r:embed="rId1"/>
          <a:stretch/>
        </p:blipFill>
        <p:spPr>
          <a:xfrm>
            <a:off x="-996840" y="0"/>
            <a:ext cx="1028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usuario\Desktop\BRgerais13.jpg"/>
          <p:cNvPicPr/>
          <p:nvPr/>
        </p:nvPicPr>
        <p:blipFill>
          <a:blip r:embed="rId1"/>
          <a:stretch/>
        </p:blipFill>
        <p:spPr>
          <a:xfrm>
            <a:off x="-1214280" y="-31680"/>
            <a:ext cx="10332720" cy="6889680"/>
          </a:xfrm>
          <a:prstGeom prst="rect">
            <a:avLst/>
          </a:prstGeom>
          <a:ln w="0">
            <a:noFill/>
          </a:ln>
        </p:spPr>
      </p:pic>
      <p:sp>
        <p:nvSpPr>
          <p:cNvPr id="252" name="CaixaDeTexto 2"/>
          <p:cNvSpPr/>
          <p:nvPr/>
        </p:nvSpPr>
        <p:spPr>
          <a:xfrm>
            <a:off x="-2214720" y="-7632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brigado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CaixaDeTexto 3"/>
          <p:cNvSpPr/>
          <p:nvPr/>
        </p:nvSpPr>
        <p:spPr>
          <a:xfrm>
            <a:off x="4857840" y="64296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galvao@oi.com.b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724360" y="5675400"/>
            <a:ext cx="3095640" cy="239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Group 5" descr=""/>
          <p:cNvPicPr/>
          <p:nvPr/>
        </p:nvPicPr>
        <p:blipFill>
          <a:blip r:embed="rId1"/>
          <a:stretch/>
        </p:blipFill>
        <p:spPr>
          <a:xfrm>
            <a:off x="73080" y="-23760"/>
            <a:ext cx="9467640" cy="688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8"/>
          <p:cNvSpPr/>
          <p:nvPr/>
        </p:nvSpPr>
        <p:spPr>
          <a:xfrm>
            <a:off x="755640" y="64818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IBGE (2003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SITUAÇÃO EPIDEMIOLÓGICA EM MINAS GERAIS: A TRIPLA CARGA DE DOENÇ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UMA AGENDA NÃO CONCLUÍDA DE INFECÇÕES, DESNUTRIÇÃO E PROBLEMAS DE SAÚDE REPRODUTIVA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A FORTE PREDOMINÂNCIA RELATIVA DAS DOENÇAS CRÔNICAS E DE SEUS FATORES DE RISCOS, COMO TABAGISMO, SOBREPESO, INATIVIDADE FÍSICA, USO EXCESSIVO DE ÁLCOOL E OUTRAS DROGAS E ALIMENTAÇÃO INADEQUADA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O FORTE CRESCIMENTO DAS CAUSAS EXTERNAS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5e5ff"/>
                </a:solidFill>
                <a:latin typeface="Garamond"/>
              </a:rPr>
              <a:t>   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0040" y="592920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FRENK, 2006; MENDES (2009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457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O PROBLEMA CRÍTICO DO SU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M MINAS GERA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CaixaDeTexto 4"/>
          <p:cNvSpPr/>
          <p:nvPr/>
        </p:nvSpPr>
        <p:spPr>
          <a:xfrm>
            <a:off x="142920" y="1643040"/>
            <a:ext cx="87868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A incoerência entre uma situação de saúde que combina transição demográfica acelerada e tripla carga de doenças, com forte predominância de condições crônicas, e um sistema fragmentado de saúde que opera de forma episódica e reativa para a atenção às condições agudas e às agudizações de condições crônicas.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8760" y="614376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MENDES (2009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4714920" cy="47545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CRISE DO SUS NO PLANO MACR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859280" y="1463760"/>
            <a:ext cx="428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UMA SITUAÇÃO DE SAÚDE DO SÉCULO XXI SENDO RESPONDIDA SOCIALMENTE POR UM SISTEMA DE ATENÇÃO À SAÚDE DA METADE DO SÉCULO XX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alibri"/>
              </a:rPr>
              <a:t>POR QUÊ?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DESCOMPASSO ENTRE :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FATORES CONTINGENCIAIS QUE EVOLUEM RAPIDAMENTE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pt-BR" sz="1800" spc="-1" strike="noStrike">
                <a:solidFill>
                  <a:srgbClr val="ffff99"/>
                </a:solidFill>
                <a:latin typeface="Calibri"/>
              </a:rPr>
              <a:t>TRANSIÇÃO DEMOGRÁFICA, TRANSIÇÃO EPIDEMIOLÓGICA E INOVAÇÃO TECNOLÓGICA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FATORES INTERNOS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pt-BR" sz="1800" spc="-1" strike="noStrike">
                <a:solidFill>
                  <a:srgbClr val="ffff99"/>
                </a:solidFill>
                <a:latin typeface="Calibri"/>
              </a:rPr>
              <a:t>CULTURA ORGANIZACIONAL, RECURSOS, SISTEMAS DE INCENTIVOS, ESTILOS DE LIDERANÇA E ARRANJOS ORGANIZATIVOS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33200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1332000" y="2709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067280" y="2709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42920" y="63579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MENDES (2009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332000" y="2924280"/>
            <a:ext cx="27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195640" y="2708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e5e5ff"/>
                </a:solidFill>
                <a:latin typeface="Garamond"/>
              </a:rPr>
              <a:t>BRECHA</a:t>
            </a:r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28600" y="571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CRISE NO PLANO MICRO:                                              A REGRA DOS 50% NAS RELAÇÕES ENTRE MÉDICOS E PESSOAS USUÁRI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40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50%  d</a:t>
            </a: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as pessoas deixaram as consultas sem compreender o que os médicos lhes disseram</a:t>
            </a: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pt-BR" sz="2300" spc="-1" strike="noStrike">
                <a:solidFill>
                  <a:srgbClr val="ffff99"/>
                </a:solidFill>
                <a:latin typeface="Garamond"/>
              </a:rPr>
              <a:t>(Roter &amp; Hall, 1989)</a:t>
            </a: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50%  </a:t>
            </a: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das pessoas compreenderam equivocadamente as orientações recebidas dos médicos.</a:t>
            </a: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300" spc="-1" strike="noStrike">
                <a:solidFill>
                  <a:srgbClr val="ffff99"/>
                </a:solidFill>
                <a:latin typeface="Garamond"/>
              </a:rPr>
              <a:t>(Schillinger et al., 2003)</a:t>
            </a: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50%  das pessoas não foram capazes de entender as prescrições de medicamentos. </a:t>
            </a:r>
            <a:r>
              <a:rPr b="1" lang="pt-BR" sz="2300" spc="-1" strike="noStrike">
                <a:solidFill>
                  <a:srgbClr val="ffff99"/>
                </a:solidFill>
                <a:latin typeface="Garamond"/>
              </a:rPr>
              <a:t>(Schillinger et al., 2005)</a:t>
            </a:r>
            <a:endParaRPr b="1" lang="en-US" sz="2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539640" y="777960"/>
            <a:ext cx="81360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 SOLUÇÃO DO PROBLEMA CRÍTICO DO SUS EM MINAS GERA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O RESTABELECIMENTO DA COERÊNCIA ENTRE A SITUAÇÃO DE SAÚDE COM TRANSIÇÃO DEMOGRÁFICA ACELERADA E TRIPLA CARGA DE DOENÇAS E UM SISTEMA INTEGRADO DE SAÚDE EQUILIBRADO NA ATENÇÃO ÀS CONDIÇÕES AGUDAS E CRÔNICAS: 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Calibri"/>
              </a:rPr>
              <a:t>AS REDES DE ATENÇÃO À SAÚDE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9640" y="63644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5e5ff"/>
                </a:solidFill>
                <a:latin typeface="Garamond"/>
              </a:rPr>
              <a:t>FONTE: MENDES (2009)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2:28:17Z</dcterms:created>
  <dc:creator>usuario3d</dc:creator>
  <dc:description/>
  <dc:language>en-US</dc:language>
  <cp:lastModifiedBy>Usuario</cp:lastModifiedBy>
  <dcterms:modified xsi:type="dcterms:W3CDTF">2012-10-18T21:11:30Z</dcterms:modified>
  <cp:revision>285</cp:revision>
  <dc:subject/>
  <dc:title>POLÍTICAS DE SAÚDE NO BRASIL E SUS</dc:title>
</cp:coreProperties>
</file>